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29FE-E2CA-44D1-9AD7-AAD81A18C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B2C3-BE43-4457-8C81-C1D47C82B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6719-80C1-40F6-B02E-DFBE800B8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DF60-ECDD-4877-AFAB-A7343F888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3F6A-6AEA-4C32-AA16-9EBA41980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D5C2-C154-46CB-BFF0-6D1AF021B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BDC-D827-48EB-A746-99D9086D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FE4-3F8B-4310-9399-44064966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F1B-8669-4EAE-8083-82DDCCC9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D72-5B54-4C94-AE64-76607CA8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DA1C-184A-4156-9F7F-731B06EE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AA5D-D4B1-4E8F-A025-488AB361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C926-60D3-4ADC-97DE-2E4637DB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187C-8261-417B-845C-8B312676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F64B-6E97-4219-8025-9DEA2C49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C1C3-C1DE-4AC3-9D04-2C839C70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28F3-944C-4681-8484-D361A133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6E7-843F-474D-AEBF-267AF78D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35D3-6ACD-4672-B07F-C522EEE2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6C32-FE41-4738-A564-C2D73592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E15B-9433-4A5B-862B-D92E0D73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40C1-AD74-4196-B807-CF783CA8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8986-DA53-4AAD-A6B8-42D69E6C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9A0689-2983-44D2-A7A6-B90149462E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F8253-2A32-435A-874D-5759FB9983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CF4C8-29C4-4595-BE63-78F0287A00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048102-511E-478B-80E4-84B5B8FCF5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158B02-52BB-40CD-AC11-1408A068A5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274-B6BA-4560-AE4D-BB2BD91D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6406B8-CBC0-45ED-B8F2-C7E0AF86BE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755922-6214-4D10-A8B1-6F5279B3FD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AF51A7-0AD2-4D0B-9875-7A24289823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B6DBC1-95ED-42C2-A42B-61F407E45B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C9515-756F-427E-B3E6-C5ABD445F4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08B4B4-1AA5-40C2-9B8A-D63038382D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DE111E-F4DD-47EB-B69B-DDB7CC6699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0B43D-095F-4003-A9E1-2542658A4A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5D693-E7D8-4E35-B9B4-1EB1C2A2DE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5CD65-F288-42ED-85C4-0F95470B7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5AB-03A2-429D-9ABE-CCF389DD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6F927-42C8-422B-9241-6EA2A4D83E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9DBB2-1B32-4230-A013-CC8BD7999C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6A750-161E-4CA1-9753-BE46497D22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96B7D-EFEE-4DA3-83F1-A571A9626F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A79F8-C778-45BC-AA9B-0ACBEAECA5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A8A29-48E9-4659-8C69-20EC9C9C3A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3F036-7D2A-43DF-A146-E62C345742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630EA-BF0C-4EA9-8634-8F273076BF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2EFE4-A346-4779-B20D-2551333EC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EF5-7955-4633-B765-07E8F9E8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49E-510D-44E5-8AE4-EA8B7516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8BA-D988-42C3-8C88-C316AE87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A74-94B6-4EC3-8016-3B61D04E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E43-101F-4987-AD9F-D40ED030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CB5A-C98E-4967-8921-8840177CEDC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0B2F-01F6-4CB4-9C9C-5039BD4E126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E61C-8226-439B-AF1F-A2D457AF9E1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F3EA-903D-4D43-BDE9-D1B5F3C6B44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rchaeometry.missouri.edu/xrf_overview.html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archaeometry.missouri.edu/xrf_overview.html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4360" y="3962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racterization, Testing of Nanotechnology Structures and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SC 2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2660760" y="366840"/>
            <a:ext cx="3908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ary Ion Mass Spectrometry (SI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S is destructive characterization method for determining the chemical composition of a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surement can be done at the surface of a sample, or utilizing simultaneous ion milling, composition as a function of depth can be deter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surement tells what atoms are present, but it does not give information on chemical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S is the most sensitive technique available for determining material composition.  It can detect down to one part per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 of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s are accelerated into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strike the sample it emits secondary ions from the surface of the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attered ions are accelerated and positioned by a series of magnetic fie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ons then go through a mass analyzer to separate ions for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SIMs 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001000" cy="49914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3060000" y="6324480"/>
            <a:ext cx="32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rchaeometry.missouri.edu/xrf_overvie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 beam can be moved quickly across the surface for near surface chemical analysis, or the beam can be focused in one area to “dig” a profile into the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the beam spot is approximately one micron in diameter.  Of course this varies by t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 source is typically Cs+,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, O , Ar+, and Ga+ at energies between 1 and 30 k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 species will contaminate and interact with the surface depth of approximately 1 – 10 n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 Emis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ypes of ion emit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ous ionization by electron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ionization of Cs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al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20" y="4267080"/>
          <a:ext cx="8229600" cy="1482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on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am 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am Fo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eous Io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Io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-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e-R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quid Metal Io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F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eous Ion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eous ionization uses an electron gun to ionize a gaseous source of elements or molecules.  The ion beam created by this technique has a high current but is roughly foc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Ion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urface ionization, cesium is evaporated through a tungsten plug. This creates cesium ions.  This technique creates either a tightly focused ion beam or a high current b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 Metal I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352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iquid metal ionization, a tungsten tip is covered in a metal or metal alloy that is typically liquid at or near room tempera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tip is subjected to a high electric field the tip will emit ions from the covering metal.  This process is capable of producing very tightly focused ion beams of less than 50 n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field used to create the ions can be turned on and off in order to create pulsed ion b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SIM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 source is typically Cs+,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, O , Ar+, and Ga+ at energies between 1 and 30 k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ons can chemically interact with the 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m chemistry is selected to minimize this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m chemistry and energy selection are part of the art of this proced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 and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ptable"/>
          <p:cNvPicPr/>
          <p:nvPr/>
        </p:nvPicPr>
        <p:blipFill>
          <a:blip r:embed="rId1"/>
          <a:stretch/>
        </p:blipFill>
        <p:spPr>
          <a:xfrm>
            <a:off x="0" y="2133720"/>
            <a:ext cx="5181480" cy="3306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rcRect l="33333" t="9495" r="29202" b="11414"/>
          <a:stretch/>
        </p:blipFill>
        <p:spPr>
          <a:xfrm>
            <a:off x="5391000" y="1600200"/>
            <a:ext cx="3753000" cy="49528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7602840" y="6536880"/>
            <a:ext cx="152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ans Analytical Group 2007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tle 1"/>
          <p:cNvSpPr/>
          <p:nvPr/>
        </p:nvSpPr>
        <p:spPr>
          <a:xfrm>
            <a:off x="343080" y="1066680"/>
            <a:ext cx="8594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i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urfac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ctu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article Based Spectroscop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on beam will sputter at a approximate rate of 0.5 to 5 nm/s. Naturally, sputter rates are a function of primary beam intensity, sample material, and crystal ori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uttered substrate ions will be approximately 1% of the incident ion 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50440"/>
            <a:ext cx="403848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primary ion beam can contaminate th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jected species contain the incident ions, sample material, electrons, and phot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ary particles carry negative, positive, and neutral charges and they have kinetic energies that range from zero to several hundred 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0" descr="sputter"/>
          <p:cNvPicPr/>
          <p:nvPr/>
        </p:nvPicPr>
        <p:blipFill>
          <a:blip r:embed="rId1"/>
          <a:stretch/>
        </p:blipFill>
        <p:spPr>
          <a:xfrm>
            <a:off x="4648320" y="2205000"/>
            <a:ext cx="4038480" cy="29815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1"/>
          <p:cNvSpPr/>
          <p:nvPr/>
        </p:nvSpPr>
        <p:spPr>
          <a:xfrm>
            <a:off x="7241040" y="6171480"/>
            <a:ext cx="152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ans Analytical Group 2007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S De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364760"/>
            <a:ext cx="832788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ss spectrum detects both atomic and molecular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to charge ratio can be misinterpre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ly the molecules can be dissociated into atomic fragments.  This is especially true of organic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flyashp"/>
          <p:cNvPicPr/>
          <p:nvPr/>
        </p:nvPicPr>
        <p:blipFill>
          <a:blip r:embed="rId1"/>
          <a:stretch/>
        </p:blipFill>
        <p:spPr>
          <a:xfrm>
            <a:off x="838080" y="3276720"/>
            <a:ext cx="7162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572000" cy="4403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55627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295280" y="5562720"/>
            <a:ext cx="6797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ToF-SIMS image of pharmaceutical ingredient distribution (Bentley)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SIM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ary ion signal from the sample may be shielded from reaching the detector due to substrate char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lectric samples may charge negatively and prevent positive ions from reaching the det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SIM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 few ways of preventing this negative charge build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nergy electron beams, are used to add negative charge to the sample.  This e-beam may interfere with the quadrapole det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lectric samples can be coated with a conductive layer.  Naturally, this layer will be included in th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can add an offset voltage to compensate for the negative charging.  Not a total solution, but more of an ai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SIM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from the sample's outer monolayer can be driven in about 10 n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damage is commonly called “surface mixing” or “knock o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tering also creates surface roughness lattice imperfections, roughnes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destructive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sputdep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7241040" y="6171480"/>
            <a:ext cx="152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ans Analytical Group 2007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X-Ray Photoelectron Spectros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Ion Mass Spectr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Photoelectron Spectroscopy (X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828800"/>
            <a:ext cx="822960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ray Photoelectron Spectroscopy (XPS), also known as Electron Spectroscopy for Chemical Analysis (ESCA), is used to determine quantitative atomic composition and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mple is irradiated with monochromatic x-rays, resulting in the emission of photoelectrons whose energies are characteristic of the elements within the sampling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XPS spectra is created by plotting the number of electrons verses their binding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Photoelectron Spectroscopy (X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77560" y="1892160"/>
            <a:ext cx="4746600" cy="42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 x-ray beam usually comprised of k-alpha x-rays is focused on the sampl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absorption of incident x-rays results in the ejection of electron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energy of the ejected electrons is measured by the detecto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23"/>
          <p:cNvGrpSpPr/>
          <p:nvPr/>
        </p:nvGrpSpPr>
        <p:grpSpPr>
          <a:xfrm>
            <a:off x="5357880" y="2377080"/>
            <a:ext cx="2768400" cy="2620440"/>
            <a:chOff x="5357880" y="2377080"/>
            <a:chExt cx="2768400" cy="2620440"/>
          </a:xfrm>
        </p:grpSpPr>
        <p:sp>
          <p:nvSpPr>
            <p:cNvPr id="182" name="Oval 3"/>
            <p:cNvSpPr/>
            <p:nvPr/>
          </p:nvSpPr>
          <p:spPr>
            <a:xfrm>
              <a:off x="5852880" y="2798640"/>
              <a:ext cx="2273400" cy="219888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"/>
            <p:cNvSpPr/>
            <p:nvPr/>
          </p:nvSpPr>
          <p:spPr>
            <a:xfrm>
              <a:off x="6105240" y="3052800"/>
              <a:ext cx="1768680" cy="171288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5"/>
            <p:cNvSpPr/>
            <p:nvPr/>
          </p:nvSpPr>
          <p:spPr>
            <a:xfrm>
              <a:off x="6357600" y="3306600"/>
              <a:ext cx="1238400" cy="11970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6"/>
            <p:cNvSpPr/>
            <p:nvPr/>
          </p:nvSpPr>
          <p:spPr>
            <a:xfrm>
              <a:off x="6694200" y="3645000"/>
              <a:ext cx="544320" cy="527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6021000" y="3136680"/>
              <a:ext cx="168120" cy="16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"/>
            <p:cNvSpPr/>
            <p:nvPr/>
          </p:nvSpPr>
          <p:spPr>
            <a:xfrm>
              <a:off x="6780240" y="2968560"/>
              <a:ext cx="168120" cy="168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9"/>
            <p:cNvSpPr/>
            <p:nvPr/>
          </p:nvSpPr>
          <p:spPr>
            <a:xfrm>
              <a:off x="7537320" y="3813120"/>
              <a:ext cx="168120" cy="16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0"/>
            <p:cNvSpPr/>
            <p:nvPr/>
          </p:nvSpPr>
          <p:spPr>
            <a:xfrm>
              <a:off x="6948360" y="4659480"/>
              <a:ext cx="168120" cy="168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1"/>
            <p:cNvSpPr/>
            <p:nvPr/>
          </p:nvSpPr>
          <p:spPr>
            <a:xfrm>
              <a:off x="6273720" y="3729240"/>
              <a:ext cx="168120" cy="16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2"/>
            <p:cNvSpPr/>
            <p:nvPr/>
          </p:nvSpPr>
          <p:spPr>
            <a:xfrm>
              <a:off x="7790040" y="4489560"/>
              <a:ext cx="168120" cy="16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3"/>
            <p:cNvSpPr/>
            <p:nvPr/>
          </p:nvSpPr>
          <p:spPr>
            <a:xfrm>
              <a:off x="6021000" y="4489560"/>
              <a:ext cx="168120" cy="16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4"/>
            <p:cNvSpPr/>
            <p:nvPr/>
          </p:nvSpPr>
          <p:spPr>
            <a:xfrm>
              <a:off x="7790040" y="3136680"/>
              <a:ext cx="168120" cy="16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4" name="Straight Arrow Connector 17"/>
            <p:cNvCxnSpPr/>
            <p:nvPr/>
          </p:nvCxnSpPr>
          <p:spPr>
            <a:xfrm flipV="1">
              <a:off x="7032240" y="2629440"/>
              <a:ext cx="842040" cy="3387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5" name="Oval 18"/>
            <p:cNvSpPr/>
            <p:nvPr/>
          </p:nvSpPr>
          <p:spPr>
            <a:xfrm>
              <a:off x="7958160" y="2460600"/>
              <a:ext cx="168120" cy="16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 rot="2040000">
              <a:off x="6019560" y="2590560"/>
              <a:ext cx="841320" cy="253800"/>
            </a:xfrm>
            <a:custGeom>
              <a:avLst/>
              <a:gdLst/>
              <a:ahLst/>
              <a:rect l="l" t="t" r="r" b="b"/>
              <a:pathLst>
                <a:path w="744718" h="251381">
                  <a:moveTo>
                    <a:pt x="0" y="241954"/>
                  </a:moveTo>
                  <a:cubicBezTo>
                    <a:pt x="33779" y="128047"/>
                    <a:pt x="67559" y="14140"/>
                    <a:pt x="94268" y="15711"/>
                  </a:cubicBezTo>
                  <a:cubicBezTo>
                    <a:pt x="120977" y="17282"/>
                    <a:pt x="136689" y="251381"/>
                    <a:pt x="160256" y="251381"/>
                  </a:cubicBezTo>
                  <a:cubicBezTo>
                    <a:pt x="183823" y="251381"/>
                    <a:pt x="208961" y="18853"/>
                    <a:pt x="235670" y="15711"/>
                  </a:cubicBezTo>
                  <a:cubicBezTo>
                    <a:pt x="262379" y="12569"/>
                    <a:pt x="296945" y="232527"/>
                    <a:pt x="320512" y="232527"/>
                  </a:cubicBezTo>
                  <a:cubicBezTo>
                    <a:pt x="344079" y="232527"/>
                    <a:pt x="353505" y="15711"/>
                    <a:pt x="377072" y="15711"/>
                  </a:cubicBezTo>
                  <a:cubicBezTo>
                    <a:pt x="400639" y="15711"/>
                    <a:pt x="438347" y="232527"/>
                    <a:pt x="461914" y="232527"/>
                  </a:cubicBezTo>
                  <a:cubicBezTo>
                    <a:pt x="485481" y="232527"/>
                    <a:pt x="494908" y="31422"/>
                    <a:pt x="518475" y="15711"/>
                  </a:cubicBezTo>
                  <a:cubicBezTo>
                    <a:pt x="542042" y="0"/>
                    <a:pt x="565609" y="119406"/>
                    <a:pt x="603316" y="138259"/>
                  </a:cubicBezTo>
                  <a:cubicBezTo>
                    <a:pt x="641023" y="157113"/>
                    <a:pt x="692870" y="142972"/>
                    <a:pt x="744718" y="1288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21"/>
            <p:cNvSpPr/>
            <p:nvPr/>
          </p:nvSpPr>
          <p:spPr>
            <a:xfrm>
              <a:off x="5357880" y="254484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-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Photoelectron Spectroscopy (X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752480"/>
            <a:ext cx="822960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tom has a unique XPS spec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S can determine elemental composition, stoichiometry, electrical/chemical states and examine surface contamin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S is an elemental analysis technique that is unique in providing chemical state information of the detected elements, such as distinguishing between sulfate and sulfide forms of the element sulf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xrf_over_fig2"/>
          <p:cNvPicPr/>
          <p:nvPr/>
        </p:nvPicPr>
        <p:blipFill>
          <a:blip r:embed="rId1"/>
          <a:stretch/>
        </p:blipFill>
        <p:spPr>
          <a:xfrm>
            <a:off x="971640" y="1538280"/>
            <a:ext cx="7086600" cy="43498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3"/>
          <p:cNvSpPr/>
          <p:nvPr/>
        </p:nvSpPr>
        <p:spPr>
          <a:xfrm>
            <a:off x="3505320" y="5888160"/>
            <a:ext cx="32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rchaeometry.missouri.edu/xrf_overvie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ges &amp; Material for X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2080" y="1325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um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ultra high vac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ompatibility with UHV environment may be an issue with biologica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the elemental composition of the top 1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etect all elements except H and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limits typically ~ 0.1 atomic 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the smallest analytical area ~10 µ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nalyze metals, inorganic, poly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ompatibility with UH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Photoelectron Spectros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ary Ion Mass Spectr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5:31:29Z</dcterms:created>
  <dc:creator>Dave Johnson</dc:creator>
  <dc:description/>
  <dc:language>en-US</dc:language>
  <cp:lastModifiedBy>Lisa A. Daub</cp:lastModifiedBy>
  <dcterms:modified xsi:type="dcterms:W3CDTF">2013-04-03T17:32:16Z</dcterms:modified>
  <cp:revision>10</cp:revision>
  <dc:subject/>
  <dc:title>Slide 1</dc:title>
</cp:coreProperties>
</file>